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6DEF-39FE-445E-AFDF-9E2E75936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9051-A86B-4E87-BD88-B53FA0A64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300-52FF-49EE-BB9F-42B404AC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524-5E0A-496E-9616-48D5AD73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521-2D6E-44B3-9172-9612330D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E40-7A2B-4A73-BAA8-38191F82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454-5504-4D5D-A0B2-A1690F3A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D2D-1A21-4EB0-B395-334207F8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FAE-EB13-41AC-AB6D-71887DB7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CA9-971E-4743-A300-2C479ABE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19D-279D-43C7-AF0E-58A66B3A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BE3-3625-4B34-8F9D-24B1BCC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AD2-61FF-48FC-B49F-0F93F8FB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E86-8AC0-41BC-A2F2-BEC4A356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D9B6-A26B-444B-ABC0-DE234FEF1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erkakas Jaman Pra aksa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5" descr="D:\PEMELAJARAN IPS TERPADU\MATERI IPS VII\kapak-lonjong-1.jpg"/>
          <p:cNvPicPr/>
          <p:nvPr/>
        </p:nvPicPr>
        <p:blipFill>
          <a:blip r:embed="rId1"/>
          <a:stretch/>
        </p:blipFill>
        <p:spPr>
          <a:xfrm>
            <a:off x="5078520" y="3200400"/>
            <a:ext cx="1703160" cy="139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D:\PEMELAJARAN IPS TERPADU\MATERI IPS VII\kapak corong.jpg"/>
          <p:cNvPicPr/>
          <p:nvPr/>
        </p:nvPicPr>
        <p:blipFill>
          <a:blip r:embed="rId2"/>
          <a:stretch/>
        </p:blipFill>
        <p:spPr>
          <a:xfrm>
            <a:off x="6858000" y="320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914400" y="1476360"/>
            <a:ext cx="1600200" cy="15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2666880" y="1752480"/>
            <a:ext cx="1143000" cy="107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2590920" y="4264200"/>
            <a:ext cx="1143000" cy="68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2706840" y="5105520"/>
            <a:ext cx="874440" cy="67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PEMELAJARAN IPS TERPADU\MATERI IPS VII\kapak persegi-2.jpg"/>
          <p:cNvPicPr/>
          <p:nvPr/>
        </p:nvPicPr>
        <p:blipFill>
          <a:blip r:embed="rId7"/>
          <a:stretch/>
        </p:blipFill>
        <p:spPr>
          <a:xfrm>
            <a:off x="706320" y="4267080"/>
            <a:ext cx="1808280" cy="1482840"/>
          </a:xfrm>
          <a:prstGeom prst="rect">
            <a:avLst/>
          </a:prstGeom>
          <a:ln w="0">
            <a:noFill/>
          </a:ln>
        </p:spPr>
      </p:pic>
      <p:sp>
        <p:nvSpPr>
          <p:cNvPr id="56" name="Rounded Rectangle 10"/>
          <p:cNvSpPr/>
          <p:nvPr/>
        </p:nvSpPr>
        <p:spPr>
          <a:xfrm>
            <a:off x="838080" y="3200400"/>
            <a:ext cx="259092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tu T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11"/>
          <p:cNvSpPr/>
          <p:nvPr/>
        </p:nvSpPr>
        <p:spPr>
          <a:xfrm>
            <a:off x="990720" y="6095880"/>
            <a:ext cx="259056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tu  Tenga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12"/>
          <p:cNvSpPr/>
          <p:nvPr/>
        </p:nvSpPr>
        <p:spPr>
          <a:xfrm>
            <a:off x="5410080" y="4876920"/>
            <a:ext cx="259092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tu Mu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4:15:17Z</dcterms:created>
  <dc:creator>Valued Acer Customer</dc:creator>
  <dc:description/>
  <dc:language>en-US</dc:language>
  <cp:lastModifiedBy>Valued Acer Customer</cp:lastModifiedBy>
  <dcterms:modified xsi:type="dcterms:W3CDTF">2013-10-23T14:23:11Z</dcterms:modified>
  <cp:revision>2</cp:revision>
  <dc:subject/>
  <dc:title>Perkakas Jaman Pra aksara</dc:title>
</cp:coreProperties>
</file>